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C5E-9613-49F5-93F6-AB0D341F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925F-9228-4181-8966-ABD8D455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FF8-7F53-40B7-A668-3043EC6D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18D-BADE-4619-8CEC-D5D5E8D7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FD76-BB14-4DAA-AFE0-9CCD4DD1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539C-4ECD-4E93-8148-B70B800C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653F-C53F-4442-9077-49A0748D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B805-D027-4EE0-9FF4-61FC9F4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FE1B-C91D-4791-99D7-83217D6E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631A-C635-47F7-876E-79B0FB8F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6B04-8E59-410A-8175-38C9070A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791-7C02-4BB4-8048-7FE1C817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AB7B-CC55-4967-87DF-60443AB2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DEED-9455-4D27-8A21-52E58A71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C403-9A1E-4FB1-A876-D27F7770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44DD-D828-43C1-850A-27F01E18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A592-25FF-400F-BB51-2665883E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93F-E449-49AA-AF45-F4906935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D7E-1DFB-4BED-A68B-73864490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8CA3-E5C0-4A7B-B21B-96B5CC74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EE76-2DB2-4C65-AB86-D18C32AD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05CB-A329-49C5-85FF-64CC099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B102-7B0A-4ED5-8DEF-697D2878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CEF6-7937-4042-AAF9-7A04FF9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1942-CA3E-4200-B197-8061AA3E23A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C2A7-B0E3-41E5-ACF3-6139F6B0FCF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RONUMELE PERSON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CAPITULA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3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352680" y="533520"/>
            <a:ext cx="16765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FINITI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2438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ARTEA DE VORBIRE CARE TINE LOCUL UNUI SUBSTANTIV SE NUMESTE </a:t>
            </a:r>
            <a:r>
              <a:rPr b="0" lang="en-US" sz="2400" spc="-1" strike="noStrike">
                <a:solidFill>
                  <a:srgbClr val="fe1f08"/>
                </a:solidFill>
                <a:latin typeface="Arial Black"/>
              </a:rPr>
              <a:t>PRONUM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45720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SCOAL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ESTE FRUMOAS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E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ESTE FRUMOAS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609480"/>
            <a:ext cx="7772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PRONUMELE CARE INDICA DIFERITE PERSOAN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</a:t>
            </a: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EU , TU , EL , EA , NOI , VOI , EI , ELE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) SUNT </a:t>
            </a: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PRONUM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PERSONALE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3429000"/>
            <a:ext cx="7162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MAM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CITESTE O CAR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A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CITESTE O CARTE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5105520"/>
            <a:ext cx="4190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TATA 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MUNCESTE LA FABRIC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MUNCESTE LA FABRIC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3048120" y="533520"/>
            <a:ext cx="258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MARU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2666880"/>
            <a:ext cx="3505320" cy="3200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UL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T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334120" y="2590920"/>
            <a:ext cx="3504960" cy="3200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LURA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NO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VO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I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2666880"/>
            <a:ext cx="3505320" cy="3200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UL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T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9480" y="2666880"/>
            <a:ext cx="3505320" cy="3200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NGUL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TU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Black"/>
              </a:rPr>
              <a:t>EA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048120" y="533520"/>
            <a:ext cx="2819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SOA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76400" y="2573280"/>
            <a:ext cx="33912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                        E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Ia                     TU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IIa                    EL , E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16765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UMARUL SINGULA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3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2895480" y="304920"/>
            <a:ext cx="28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RSOAN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790720" y="2001960"/>
            <a:ext cx="356256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                            NO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I a                     VOI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IIIa                     EI , EL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1143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NUMARUL PLURA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5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17:33:56Z</dcterms:created>
  <dc:creator>pisu</dc:creator>
  <dc:description/>
  <dc:language>en-US</dc:language>
  <cp:lastModifiedBy>pisu</cp:lastModifiedBy>
  <dcterms:modified xsi:type="dcterms:W3CDTF">2007-02-24T18:08:22Z</dcterms:modified>
  <cp:revision>2</cp:revision>
  <dc:subject/>
  <dc:title>PRONUMELE PERSONAL</dc:title>
</cp:coreProperties>
</file>